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BF1-7B3A-4C67-B61C-15A4ABDC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8E2-8205-4A1A-972B-AB8EBD60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8C2-D4D0-4477-9C6D-E51C56FC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9F5-9388-472E-B918-A6D758B4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85F-7DCD-41DB-A3A0-3C196FE0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A0A-FEDF-45AB-8181-A6591F5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6AA-47E6-4ED9-A14D-AC9BF35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004-4E51-4416-8C15-95E872AF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343-8A6C-46C9-9D8D-E5C98411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D50-D89D-4285-9DBA-F6BCB2BB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D63-3E46-439A-A242-D9A3169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30A-723C-44C9-8C2C-A4EA0A12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2CF2-1526-4C7E-87F9-737F8C4B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3.3: Quadratic Inequalities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Remembering inequalities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qualities use &lt;, &g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, and ≥ to compare two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quadratic inequality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bx+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n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, and ≥ could be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Generic Uncials 'Snowcapped'"/>
              </a:rPr>
              <a:t>Graphical solutions with a graph</a:t>
            </a:r>
            <a:endParaRPr b="1" lang="en-US" sz="44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ine the graph.  Determine if you want values greater than zero or less than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solution in set builder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5581440" cy="2838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Solving algebraically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olve using any method that you’ve used to solve quadratic equations, includ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solving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x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Now imagine the graph…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x-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ay does this graph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f(x)=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x=-8 and 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uld f(x)&g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8 or x&lt;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uld f(x)&l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&lt;x&l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2971800" cy="2981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Rules for solving algebraically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n the fo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bx+c&gt;0 (an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, and ≥ could be us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ve for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bx+c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is information to break up the number line into intervals where y=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bx+c is positive or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your solution.  Pick test values if necessary to verify your solution (the book refers to this as using a table) or graph to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Try these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10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f(x)=0, f(x)&gt;0, f(x)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Your assignment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13-214 #2-4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7:19:44Z</dcterms:created>
  <dc:creator>nuhs</dc:creator>
  <dc:description/>
  <dc:language>en-US</dc:language>
  <cp:lastModifiedBy>nuhs</cp:lastModifiedBy>
  <dcterms:modified xsi:type="dcterms:W3CDTF">2008-01-29T17:48:16Z</dcterms:modified>
  <cp:revision>4</cp:revision>
  <dc:subject/>
  <dc:title>3.3: Quadratic Inequalities</dc:title>
</cp:coreProperties>
</file>